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gif" ContentType="image/gif"/>
  <Override PartName="/ppt/media/image14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8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18A-0008-402A-85B1-675A236F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B06-F471-4C01-8C42-6468A902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912-65DB-4C9F-B650-030DD4B7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0AA-49C8-4739-9E7B-15E95A44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A3A-0457-4DAC-AFB7-629F43F9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653-E3A3-4EBE-8D7C-10B22449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50D-8894-4825-ABF1-DD8D7B37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7B6-CAE0-4E40-8104-8F3F468A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617-3CF4-4533-8E4D-5A861984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798-F244-4B2C-9CEA-96C5F5C0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C7C-A3F0-4E11-9AFC-CEEBEE02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5C8-9403-4A82-BCA8-F6D5785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424C-0CB7-4572-90FB-C42A0953D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85800"/>
            <a:ext cx="453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8000" spc="-1" strike="noStrike">
                <a:solidFill>
                  <a:srgbClr val="009900"/>
                </a:solidFill>
                <a:latin typeface="Arial"/>
              </a:rPr>
              <a:t>ОРО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63440" y="426708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БА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9627" t="17828" r="12991" b="8177"/>
          <a:stretch/>
        </p:blipFill>
        <p:spPr>
          <a:xfrm>
            <a:off x="4800600" y="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200400" cy="259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426708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42670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2560" y="22860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МА – ТЕ - 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8960" y="1371600"/>
            <a:ext cx="3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ПЕНЬ - 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1240" y="2590920"/>
            <a:ext cx="25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ТЪ - 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0320" y="3657600"/>
            <a:ext cx="26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АЙ - 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7720" y="4648320"/>
            <a:ext cx="20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0920" y="571500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КАС - 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760" y="228600"/>
            <a:ext cx="30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МАТЕР -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14120" y="1295280"/>
            <a:ext cx="300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ПЕН - 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760" y="2514600"/>
            <a:ext cx="255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Т - Ъ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63160" y="3657600"/>
            <a:ext cx="25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ЧА- 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2040" y="472428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О - 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77840" y="579132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КА - 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5638680" y="5791320"/>
            <a:ext cx="251460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5791320" y="472428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5715000" y="365760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562720" y="2590920"/>
            <a:ext cx="251460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5715000" y="129528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867280" y="228600"/>
            <a:ext cx="251460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5638680" y="5791320"/>
            <a:ext cx="243864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790960" y="464832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790960" y="3581280"/>
            <a:ext cx="2438280" cy="83844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H="1">
            <a:off x="5562360" y="251460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4640" y="1295280"/>
            <a:ext cx="2438280" cy="83844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5943240" y="228600"/>
            <a:ext cx="2438280" cy="83808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990720" y="304920"/>
            <a:ext cx="70102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  </a:t>
            </a: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СПАСИБО 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ЗА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바탕"/>
              </a:rPr>
              <a:t>УРОК!</a:t>
            </a:r>
            <a:endParaRPr b="1" lang="en-US" sz="80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바탕"/>
              <a:ea typeface="바탕"/>
            </a:endParaRPr>
          </a:p>
        </p:txBody>
      </p:sp>
      <p:pic>
        <p:nvPicPr>
          <p:cNvPr id="92" name="Picture 6" descr="C:\Documents and Settings\Администратор\Рабочий стол\аниме животные\animal145.gif"/>
          <p:cNvPicPr/>
          <p:nvPr/>
        </p:nvPicPr>
        <p:blipFill>
          <a:blip r:embed="rId2"/>
          <a:stretch/>
        </p:blipFill>
        <p:spPr>
          <a:xfrm>
            <a:off x="533520" y="251460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2881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62120"/>
            <a:ext cx="60958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5400000"/>
                </a:gradFill>
                <a:latin typeface="Bookman Old Style"/>
              </a:rPr>
              <a:t>ПЕРЕНОС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9966ff"/>
                    </a:gs>
                    <a:gs pos="50000">
                      <a:srgbClr val="462f75"/>
                    </a:gs>
                    <a:gs pos="100000">
                      <a:srgbClr val="9966ff"/>
                    </a:gs>
                  </a:gsLst>
                  <a:lin ang="5400000"/>
                </a:gradFill>
                <a:latin typeface="Bookman Old Style"/>
              </a:rPr>
              <a:t>СЛОВ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9966ff"/>
                  </a:gs>
                  <a:gs pos="50000">
                    <a:srgbClr val="462f75"/>
                  </a:gs>
                  <a:gs pos="100000">
                    <a:srgbClr val="9966ff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pic>
        <p:nvPicPr>
          <p:cNvPr id="48" name="Picture 6" descr="C:\Documents and Settings\Администратор\Рабочий стол\аниме люди\22л.gif"/>
          <p:cNvPicPr/>
          <p:nvPr/>
        </p:nvPicPr>
        <p:blipFill>
          <a:blip r:embed="rId1"/>
          <a:stretch/>
        </p:blipFill>
        <p:spPr>
          <a:xfrm>
            <a:off x="5334120" y="2286000"/>
            <a:ext cx="3504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21880" y="542880"/>
            <a:ext cx="53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МА - ТЕР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7840" y="3657600"/>
            <a:ext cx="53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ookman Old Style"/>
              </a:rPr>
              <a:t>МАТЕ - Р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638" t="0" r="83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332000" y="333360"/>
            <a:ext cx="7126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ЕНЬ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ЕНЬ - 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Администратор\Рабочий стол\аниме животные\kroiwn.gif"/>
          <p:cNvPicPr/>
          <p:nvPr/>
        </p:nvPicPr>
        <p:blipFill>
          <a:blip r:embed="rId2"/>
          <a:stretch/>
        </p:blipFill>
        <p:spPr>
          <a:xfrm>
            <a:off x="4859280" y="260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09480" y="228600"/>
            <a:ext cx="75438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ОТЪЕ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ОТЪ - Е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15240" y="468360"/>
            <a:ext cx="420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ookman Old Style"/>
              </a:rPr>
              <a:t>ЧАЙ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90800" y="4343400"/>
            <a:ext cx="514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ookman Old Style"/>
              </a:rPr>
              <a:t>ЧАЙ - 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685800" y="990720"/>
            <a:ext cx="75438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85800" y="990720"/>
            <a:ext cx="7620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АС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КАС - С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11</cp:lastModifiedBy>
  <dcterms:modified xsi:type="dcterms:W3CDTF">2008-02-13T10:19:4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